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28A-79B6-4919-8251-3B742E42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CD7-4365-4589-89FB-B1765AF6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6316A-B6F2-47BF-A011-5B98123C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A51B0-5CB0-4EEF-8296-4633F67F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C8D56-A939-4971-9B59-E5704DB6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3A9CC-FCE3-4FB9-817C-C9323EE0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0E60E-501A-4D39-912C-E3FB3EC0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58D6D-C9A3-4F63-B68F-4B611466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95327-FF87-454E-AF27-FB532A27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25BD6-41C8-4B29-BD2B-A63A9F8C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EC85A-C3BB-4727-8F8A-EC2591E0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095E4-C982-4B5A-9A33-DD38AB47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C11-09F7-43E9-B835-FAEAA56A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B51C3-643E-497D-A2EB-F1733591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F905F-F87C-4FF8-A406-49BAA826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93068-4D4F-4203-816C-88181007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32352-A4CE-4424-9417-CF15FE6A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61010-9DD4-4410-858C-B4852FA1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161F2-9740-4322-B791-CC211EA6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6598B-390B-49F9-8226-47EE946F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68B21-A5DD-4883-8D07-3C346C91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4B039-B86D-4837-9B06-71FEAF5F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9AD62-4D39-44D0-8ED3-299792FE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F0B-A40A-449A-9898-59010DE9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1F28E-C2F5-4441-B894-75C389CA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FA8F8-021C-4A39-8486-88B8973D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62FA9-8950-449D-833C-7A55065F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C22BF-67E1-4874-AC11-A5E64F1F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AEFFE-DB23-4B5A-8E7F-AF1443C8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4FE65-2B19-4253-90CB-A1F8A8FD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FBDA2-9C96-44E7-B9F5-44F1F3AE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EAFF1-5E3F-404B-9CC3-B8094D7D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6D3D2-1BB5-469C-AA2D-7C9A3864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884CC-099C-4F72-9316-77B4F2CA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96D3-FF86-49F0-9789-E2E9A81E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698A8-D1EE-44C1-A6E9-D648E78D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48503-C4BF-4068-9783-501E9CF9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737DB-BCD8-4F33-9DB7-E4201086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38919-EC75-4D92-A757-AFD94C36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0E753-DEF4-4618-9018-63B8BF75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09C15-1D5E-4738-8299-56E35127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AB047-AF26-4BA9-BBD2-F6768D60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E86BF-BBFE-43E3-BD17-D6464DA8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87133-19F1-403B-9713-7B4462E3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916BC-B1A6-4FF2-B794-9FAE8C5B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5F8F-35FF-4F00-9439-B16FC5F3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E7034-691C-4D66-B51C-A53BF73D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7FAF0-9F16-4DE7-A535-20C89284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FC1B6-D57D-4EB3-AB10-B584E2DE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F1CD6-D8D7-48F0-9626-8E6B5C0C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7AE01-B04B-4864-AEAB-E71664A3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D49A-54EE-4736-A764-94EC4814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008B-5C28-4015-A6E3-C0288C50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D434-D8E9-44EA-BA5C-EFBF7191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3109-31A8-4E20-9F0D-066AF753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38D3-8D18-427B-83A5-95E8D6DF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2807-1FD8-4893-BE16-D3FBBCD7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0EF7-E638-4FA5-B6DB-FD03DEE3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24AC-B19A-4473-A342-F79BEDF1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5FCE-5DB3-47E4-9526-9524E9D6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C83D-AEC5-4199-BD51-E849B309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E6A6-75C7-49AB-A458-0DF24ACC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C2F78-F47A-4E84-8255-3C6AB2AF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8A177-E12F-4F22-99BB-BD4BB4B1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67887-404D-4464-AA3F-C172125B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AD844-709B-4FE9-A1A9-60321A89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03D1A-5F49-4AE7-AD22-37BBA2C2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3AE-C392-48C7-B74F-2A9D2359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6D796-8904-4A00-8379-61F09097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83997-4A29-4A0D-86C9-C5D80962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18B40-EFF6-48DC-BA28-6D1A9AB5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D8D85-E097-46D7-AEFB-AFC16114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11695-DA10-4BCB-A6E4-B99F066E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58221-F4F7-4DE2-9994-C6A7FFD9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00637-C1D3-4116-8EA4-65642956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4BA3B-C3C2-4AF6-B848-8B9DFD91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1BED8-834F-4B19-AE59-594643A4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98572-2C86-47F3-A9B7-BE761499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97B-B6E3-48EB-B6B2-D92AC82B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7CD63-524F-467D-B412-B98B0568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4EB71-4F05-45FF-B784-2509AB0F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639C3-CB16-451A-92F7-1B123998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068CC-72BF-43AC-9A52-D5A38B31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DF2E0-B154-4AA2-99AB-7B780229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43926-35BA-4772-B2B7-BF1D0515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B8444-50D8-4D3B-9F02-9DB90642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556FF-198F-40D1-8B0A-3BD45CAA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70D8D-E1A7-411B-BCFB-8B3C3DF5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11FC0-4FEE-4398-9C42-8CCB595B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9C3-6DB4-40FD-A8F0-DD449B94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0418F-43EA-47E6-8D75-ACABE808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EB36E-8859-4207-ADA9-D671E169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7F317-6BC5-499F-BFD0-A2D82844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54827-3E26-47E4-9A0E-54A4ADB3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B5728-DD9D-4F76-8DD8-563A8180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09888-F982-4C3F-87EA-E8653B5F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FA236-6C1E-4FD1-833D-F6B6FAD2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D817D-6BC4-4327-8C3F-4F6294F2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F44A8-DC31-4CDB-B7DE-A656D7DC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7EA5F-2A59-40D6-816E-CFFAA35F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934-CBA0-4BC5-B92C-B2A4C612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34843-1B73-4880-AAF1-3E03AEDD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3941F-C8CE-4FDB-9F3A-8CDD93B8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0F13A-074B-4260-AAE6-F5737157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4A9AC-DA0A-4B98-88CA-C8729E24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241DE-7B0A-40B7-8B6A-C1D5DEA2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F1FEA-442D-4D09-B06E-7F2A1F67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B07B6-616D-4ED0-9796-CD244026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D5D66-9C95-4BC9-86A2-83691FFB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CBD08-87BF-44DE-90E8-C5BF559E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829C9-38E9-4D47-B966-EE5F6EBE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0C9A-07D9-4B37-BE12-AFA3A893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3BEFC-9083-4CA1-AD35-9A2EC0D4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EF9CE-2E5D-4CCD-A752-BB110B67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F7D52-F901-49A0-8298-0093AFBE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3E4A9-ECA1-4AF4-B3C7-815D3AA4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A62F1-04CE-4E10-9AEE-0A8A6535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9AB79-40E3-4BEE-9365-45DC4B7C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969DC-1EDC-4FDC-B7B1-EFFBEBAA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BEA4A-A4F2-490C-B306-9FF09EC3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56010-7AA4-404F-A9B6-49EB5B8C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E5E82-3EA3-48D9-822B-4D7FF09A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83DE-891C-4ECA-9363-C24C0058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0FC1F-8544-41E8-AE58-1582C166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84465-4BB6-4B69-9130-BAA490BF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61328-8317-457A-9D80-8461B073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DF4CA-A16A-4531-96C7-C2703DE1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358AF-C49B-4072-B737-8DC5B2AE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F6846-3DE4-4328-8977-E7659868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5A650-AF43-4F6B-9D5A-BE37A231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09F47-BFB2-4093-9C1E-11A8F5BC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7DFB1-0CFF-432C-8DDE-E1E00FF9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9A91D-9EC0-4C68-837D-0641E20B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D68F-EF5E-401F-A1DA-E8D4C177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A2E00-ED58-407C-AB28-6A1C706A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8AAB4-EBD5-476E-AE55-0F80ED56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45996-B769-42AC-95EC-DC733219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4C263-C73F-426E-9F09-43549F03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329A5-30BD-4DC3-B8BD-6F841213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BC13A-FF15-453F-AB7D-5BE81C41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CAADF-6EFE-45D2-B34E-EBA05D92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40CBC-1315-4BEB-AC99-47FFBD95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EFBC6-76BF-4678-AA89-F3589D71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12D75-D1A2-4A1B-851E-71677D9A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30F4-1AEB-4552-9E54-C91380A172A7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3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B7D7-9C0A-4DFA-98A3-E0ADFA637369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DB41-2DF8-4D28-A104-572D1BF4D485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C3C7-6B49-42E9-8F7F-F15FA2DF99DC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6FAA-E595-449C-8FF3-1BBC2F93AD00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8905-E2FC-4E4C-A99C-7696FDA3736E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A1EF-292D-47A2-A311-6A3932BE89D4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1F17-09B8-4D71-9F69-0055389F38BE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5A68-66AE-4076-8193-280871C93940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D744-6E12-4489-B020-E20EF642A23F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66C8-A9B4-468E-B776-B5BC4DEF7484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094D-D203-4513-B629-1F861A558F16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77C2-7F4D-42A1-9A6A-7D1EEB1FCBD6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00B9-D44B-4B11-A0DA-DD98E449E912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8FD2-CD64-4722-BE4A-81DFC4D6770A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47C4-0633-4593-9304-CE0DAD4BEDFD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9CAF-D204-48EE-A6D3-6A9B40086940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8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02CD-57F3-4871-BC74-7698F6F14F4C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CBB1-EDF6-4DDC-95EF-9D737C1E3221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C198-337B-4FB7-A2BE-3344F501A573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151B-9C19-40B1-BBB8-C1A903FC67AB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CBCD-FAAC-4458-8258-7BF6692799C4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BF95-B506-428E-A011-AAF272C4A125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2"/>
          <p:cNvSpPr/>
          <p:nvPr/>
        </p:nvSpPr>
        <p:spPr>
          <a:xfrm>
            <a:off x="3162240" y="420372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R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八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244440" y="3295800"/>
            <a:ext cx="180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Unit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1806480" y="3125880"/>
            <a:ext cx="73375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Have you read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Treasure Islan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 y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244440" y="3997440"/>
            <a:ext cx="851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2603520" y="4761000"/>
            <a:ext cx="4660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ection B 2a-2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AutoShape 2"/>
          <p:cNvSpPr/>
          <p:nvPr/>
        </p:nvSpPr>
        <p:spPr>
          <a:xfrm>
            <a:off x="2533680" y="247680"/>
            <a:ext cx="4365720" cy="10065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760320" y="1419120"/>
            <a:ext cx="791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 A country music song changed her life for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hang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Please telephone me if you are to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chang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the day of our meeting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不得不改变我们会晤的日期，请给我打个电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She had to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chang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her way of life when her baby came on the sce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她的孩子出世之后，她不得不改变生活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1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1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2"/>
          <p:cNvSpPr/>
          <p:nvPr/>
        </p:nvSpPr>
        <p:spPr>
          <a:xfrm>
            <a:off x="2521080" y="247680"/>
            <a:ext cx="4365360" cy="10065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812880" y="1447920"/>
            <a:ext cx="780732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fore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副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永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，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fore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肯定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否定句中可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e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They thought that their empire wou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last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fore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他们认为他们的王国会永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Teacher is powerful in a child's ey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fore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老师在孩子们的心中永远是强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AutoShape 2"/>
          <p:cNvSpPr/>
          <p:nvPr/>
        </p:nvSpPr>
        <p:spPr>
          <a:xfrm>
            <a:off x="2400480" y="247680"/>
            <a:ext cx="4365360" cy="10065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560520" y="1432080"/>
            <a:ext cx="83106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 While she was studying abroad 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England,she heard a song full of fee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about returning home on the ra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abro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副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在国外；到国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，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abro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句中可用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状语、表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修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名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后置定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e is travelling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abro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他要到国外旅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e lived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abro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for many 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他在国外居住了许多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10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10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10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10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2697120" y="247680"/>
            <a:ext cx="4365720" cy="10065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"/>
          <p:cNvSpPr/>
          <p:nvPr/>
        </p:nvSpPr>
        <p:spPr>
          <a:xfrm>
            <a:off x="560520" y="1422360"/>
            <a:ext cx="8145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 Many songs these days are just about modern life in the US,such as the importance of money and success,but not about belonging to a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moder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形容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现代的；当代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I'd rather stay in a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moder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hot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我希望住在一家现代化的旅馆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In this part of the city, you can see ancient and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moder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buildings next to each 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这座城市的这个部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你可以看到鳞次栉比的古代的与现代的建筑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609480" y="1254240"/>
            <a:ext cx="76392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ucces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此可用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不可数名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成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。用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可数名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成功的事；取得成就的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st month's flower show was a great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succ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上个月的花展举办的非常成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ailure is the mother of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succ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失败是成功之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3"/>
          <p:cNvSpPr/>
          <p:nvPr/>
        </p:nvSpPr>
        <p:spPr>
          <a:xfrm>
            <a:off x="2533680" y="247680"/>
            <a:ext cx="4365720" cy="10065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763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1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520560" y="1254240"/>
            <a:ext cx="78598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elo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不及物动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属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，常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介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t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搭配使用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无进行时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不用于被动语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 blue sweate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elong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i Ming.His mother bought it for him yesterday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这件蓝色毛衣是李明的，他的妈妈昨天给他买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elong t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名词或代词宾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不能接物主代词，也不能接名词所有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is book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elongs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mine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这本书是我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3"/>
          <p:cNvSpPr/>
          <p:nvPr/>
        </p:nvSpPr>
        <p:spPr>
          <a:xfrm>
            <a:off x="2509920" y="247680"/>
            <a:ext cx="4365720" cy="10065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AutoShape 2"/>
          <p:cNvSpPr/>
          <p:nvPr/>
        </p:nvSpPr>
        <p:spPr>
          <a:xfrm>
            <a:off x="2255760" y="247680"/>
            <a:ext cx="4365720" cy="10065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441360" y="1469880"/>
            <a:ext cx="81072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4. He’s sold more than 120 million rec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recor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此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名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唱片；记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，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表示某人录制的唱片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spoke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a record spoken by Mar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As a result of this meeting, he made his first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recor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由于这次会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他制作了他的第一张唱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e did very well, but failed to break the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 recor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他做得很出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但未破纪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3" dur="1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10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2"/>
          <p:cNvSpPr/>
          <p:nvPr/>
        </p:nvSpPr>
        <p:spPr>
          <a:xfrm>
            <a:off x="2246400" y="247680"/>
            <a:ext cx="4365360" cy="10065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763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596880" y="1432080"/>
            <a:ext cx="77691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mill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一百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，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与具体数字连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，其后不能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面直接接名词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There are five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mill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people in our city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我们的城市有五百万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million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可与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of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构成短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数百万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，后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名词复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John has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million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of f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乔布斯有数百万的粉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矩形 6" descr=""/>
          <p:cNvPicPr/>
          <p:nvPr/>
        </p:nvPicPr>
        <p:blipFill>
          <a:blip r:embed="rId1"/>
          <a:stretch/>
        </p:blipFill>
        <p:spPr>
          <a:xfrm>
            <a:off x="2987640" y="422280"/>
            <a:ext cx="3381480" cy="85896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3"/>
          <p:cNvSpPr/>
          <p:nvPr/>
        </p:nvSpPr>
        <p:spPr>
          <a:xfrm>
            <a:off x="662040" y="1281240"/>
            <a:ext cx="754704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o does this T-shirt belong _____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 in           B. on          C. to        D.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 Jim's name is on the book, so it mu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elong to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 his        B. him        C. he       D. him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Although he hasn't _____ to America, 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nows a lot about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 been      B. gone     C. went     D.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6369120" y="1281240"/>
            <a:ext cx="78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2987640" y="316224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4678200" y="433404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矩形 6" descr=""/>
          <p:cNvPicPr/>
          <p:nvPr/>
        </p:nvPicPr>
        <p:blipFill>
          <a:blip r:embed="rId1"/>
          <a:stretch/>
        </p:blipFill>
        <p:spPr>
          <a:xfrm>
            <a:off x="2987640" y="422280"/>
            <a:ext cx="3381480" cy="85896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3"/>
          <p:cNvSpPr/>
          <p:nvPr/>
        </p:nvSpPr>
        <p:spPr>
          <a:xfrm>
            <a:off x="219240" y="1281240"/>
            <a:ext cx="8654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 They keep pouring out ____ trucks every y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 two millions              B. mill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. two millions of          D. million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 Look! The red bike must belong to your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 father's      B. him     C. father     D. sister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 --- I'd like you to tell me something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hennongj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-- I'm sorry, but neither Jack nor I ____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 have been              B. had 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. have gone              D. has g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4924440" y="128124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7867800" y="2771640"/>
            <a:ext cx="78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6673680" y="487980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thCALG29RT"/>
          <p:cNvPicPr/>
          <p:nvPr/>
        </p:nvPicPr>
        <p:blipFill>
          <a:blip r:embed="rId1"/>
          <a:stretch/>
        </p:blipFill>
        <p:spPr>
          <a:xfrm>
            <a:off x="561960" y="461880"/>
            <a:ext cx="3978360" cy="295596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3"/>
          <p:cNvSpPr/>
          <p:nvPr/>
        </p:nvSpPr>
        <p:spPr>
          <a:xfrm>
            <a:off x="4762440" y="868320"/>
            <a:ext cx="3916440" cy="31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country music 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乡村音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4" descr="thCA8YONYC"/>
          <p:cNvPicPr/>
          <p:nvPr/>
        </p:nvPicPr>
        <p:blipFill>
          <a:blip r:embed="rId2"/>
          <a:srcRect l="0" t="10947" r="0" b="0"/>
          <a:stretch/>
        </p:blipFill>
        <p:spPr>
          <a:xfrm>
            <a:off x="4762440" y="3710160"/>
            <a:ext cx="4240440" cy="303192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5"/>
          <p:cNvSpPr/>
          <p:nvPr/>
        </p:nvSpPr>
        <p:spPr>
          <a:xfrm>
            <a:off x="149400" y="3989520"/>
            <a:ext cx="46130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abroad </a:t>
            </a:r>
            <a:r>
              <a:rPr b="1" i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adv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在国外，到国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u=1137319866,1898795034&amp;fm=23&amp;gp=0"/>
          <p:cNvPicPr/>
          <p:nvPr/>
        </p:nvPicPr>
        <p:blipFill>
          <a:blip r:embed="rId1"/>
          <a:stretch/>
        </p:blipFill>
        <p:spPr>
          <a:xfrm>
            <a:off x="4948200" y="114480"/>
            <a:ext cx="3255840" cy="488304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3"/>
          <p:cNvSpPr/>
          <p:nvPr/>
        </p:nvSpPr>
        <p:spPr>
          <a:xfrm>
            <a:off x="4049640" y="4897440"/>
            <a:ext cx="48420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modern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adj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现代的，当代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thCA8TX9UW"/>
          <p:cNvPicPr/>
          <p:nvPr/>
        </p:nvPicPr>
        <p:blipFill>
          <a:blip r:embed="rId2"/>
          <a:stretch/>
        </p:blipFill>
        <p:spPr>
          <a:xfrm>
            <a:off x="150840" y="560520"/>
            <a:ext cx="4440240" cy="33224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5"/>
          <p:cNvSpPr/>
          <p:nvPr/>
        </p:nvSpPr>
        <p:spPr>
          <a:xfrm>
            <a:off x="150840" y="3882960"/>
            <a:ext cx="40608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fan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1" i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.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迷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狂热爱好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u=4011444939,1342760342&amp;fm=23&amp;gp=0"/>
          <p:cNvPicPr/>
          <p:nvPr/>
        </p:nvPicPr>
        <p:blipFill>
          <a:blip r:embed="rId1"/>
          <a:stretch/>
        </p:blipFill>
        <p:spPr>
          <a:xfrm>
            <a:off x="203040" y="620640"/>
            <a:ext cx="4537080" cy="33130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" descr="u=1143741693,2154917501&amp;fm=11&amp;gp=0"/>
          <p:cNvPicPr/>
          <p:nvPr/>
        </p:nvPicPr>
        <p:blipFill>
          <a:blip r:embed="rId2"/>
          <a:srcRect l="16084" t="0" r="21616" b="0"/>
          <a:stretch/>
        </p:blipFill>
        <p:spPr>
          <a:xfrm>
            <a:off x="4740120" y="2363760"/>
            <a:ext cx="4124520" cy="449424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4"/>
          <p:cNvSpPr/>
          <p:nvPr/>
        </p:nvSpPr>
        <p:spPr>
          <a:xfrm>
            <a:off x="4950000" y="285840"/>
            <a:ext cx="39146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laughter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n.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笑；笑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371520" y="3882960"/>
            <a:ext cx="40608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beauty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1" i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.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美；美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u=1568909667,4016911574&amp;fm=23&amp;gp=0"/>
          <p:cNvPicPr/>
          <p:nvPr/>
        </p:nvPicPr>
        <p:blipFill>
          <a:blip r:embed="rId1"/>
          <a:srcRect l="4346" t="13668" r="3836" b="10443"/>
          <a:stretch/>
        </p:blipFill>
        <p:spPr>
          <a:xfrm>
            <a:off x="638280" y="647640"/>
            <a:ext cx="7650000" cy="37670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3"/>
          <p:cNvSpPr/>
          <p:nvPr/>
        </p:nvSpPr>
        <p:spPr>
          <a:xfrm>
            <a:off x="2660760" y="4241880"/>
            <a:ext cx="5054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million     num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一百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u=2328403436,880470461&amp;fm=23&amp;gp=0"/>
          <p:cNvPicPr/>
          <p:nvPr/>
        </p:nvPicPr>
        <p:blipFill>
          <a:blip r:embed="rId1"/>
          <a:srcRect l="0" t="0" r="0" b="12295"/>
          <a:stretch/>
        </p:blipFill>
        <p:spPr>
          <a:xfrm>
            <a:off x="1316160" y="184320"/>
            <a:ext cx="6011640" cy="420048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3"/>
          <p:cNvSpPr/>
          <p:nvPr/>
        </p:nvSpPr>
        <p:spPr>
          <a:xfrm>
            <a:off x="1039680" y="4384800"/>
            <a:ext cx="75074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record </a:t>
            </a:r>
            <a:r>
              <a:rPr b="1" i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n.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唱片；记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</a:t>
            </a:r>
            <a:r>
              <a:rPr b="1" i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v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.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录制；录（音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2"/>
          <p:cNvSpPr/>
          <p:nvPr/>
        </p:nvSpPr>
        <p:spPr>
          <a:xfrm>
            <a:off x="361800" y="525600"/>
            <a:ext cx="8290080" cy="987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2a.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Discuss the questions with a 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361800" y="1789200"/>
            <a:ext cx="8290080" cy="358596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beve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6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o you have a favorite singer or ba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. Do you have a favorite so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 What facts do you know about your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favorite singer, band or so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2"/>
          <p:cNvSpPr/>
          <p:nvPr/>
        </p:nvSpPr>
        <p:spPr>
          <a:xfrm>
            <a:off x="1455840" y="247680"/>
            <a:ext cx="7145280" cy="21733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2b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Read the passage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omplete the fact sheet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age 63.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71520" y="2711520"/>
            <a:ext cx="854064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untry Music Fact Sheet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ere it is from: ___________________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__________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kind of music it is: _____________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010040" y="3705120"/>
            <a:ext cx="4319640" cy="1410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the southern stat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of 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5435640" y="5657760"/>
            <a:ext cx="3240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country 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AutoShape 2"/>
          <p:cNvSpPr/>
          <p:nvPr/>
        </p:nvSpPr>
        <p:spPr>
          <a:xfrm>
            <a:off x="1573200" y="195120"/>
            <a:ext cx="1027080" cy="9115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6336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2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898560" y="1106640"/>
            <a:ext cx="74372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3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 famous country music place in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3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ashville: 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3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 famous country music singer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3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3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The number of records he has sol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3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3332160" y="1957320"/>
            <a:ext cx="28083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Tennes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4410000" y="3840120"/>
            <a:ext cx="34624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Garth Br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4737240" y="5533920"/>
            <a:ext cx="2808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20 m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daidai</dc:creator>
  <dc:description/>
  <cp:keywords/>
  <dc:language>en-US</dc:language>
  <cp:lastModifiedBy>will</cp:lastModifiedBy>
  <dcterms:modified xsi:type="dcterms:W3CDTF">2016-03-25T03:26:19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